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3.wmf" ContentType="image/x-wmf"/>
  <Override PartName="/ppt/media/image13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9.png" ContentType="image/png"/>
  <Override PartName="/ppt/media/image14.wmf" ContentType="image/x-wmf"/>
  <Override PartName="/ppt/media/image26.wmf" ContentType="image/x-wmf"/>
  <Override PartName="/ppt/media/arrow.wav" ContentType="audio/x-wav"/>
  <Override PartName="/ppt/media/image9.jpeg" ContentType="image/jpeg"/>
  <Override PartName="/ppt/media/image23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7F7-5607-44FC-A1D0-AB5830CF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890F-4E4C-4530-AD19-D499D8AF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9CF-4038-4189-8BC1-B2D4BBD2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77A-1F25-4742-A4AA-441BA240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C2B-F382-47B6-828F-67C5A3A1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76D-5CF2-41B9-A2B2-A056119A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B6D-97BA-481B-8177-FCA208F3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AE8-8891-4E51-9B01-2FE1C68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D936-D9F6-4376-BA08-D4E6300A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C0F-3BD7-460F-8E96-A2067FDD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6DB-40D5-4680-98E8-4828019F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D9D-97D7-4DB3-9076-B7D6EF7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640-2A87-4BFD-97B1-17AB9F215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99ff"/>
                </a:solidFill>
                <a:latin typeface="Kahootz Fatty"/>
              </a:rPr>
              <a:t>Planets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By Meagan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8273000">
            <a:off x="7740000" y="3861000"/>
            <a:ext cx="64008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8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3559 -0.0384 C -0.03593 -0.05644 -0.03211 -0.08952 -0.04375 -0.10595 C -0.0467 -0.11705 -0.04496 -0.11242 -0.04843 -0.12006 C -0.04878 -0.12376 -0.04878 -0.12746 -0.04965 -0.13093 C -0.05121 -0.13741 -0.05538 -0.14273 -0.05677 -0.14967 C -0.0592 -0.1617 -0.06076 -0.17534 -0.06614 -0.18575 C -0.071 -0.20518 -0.06927 -0.22947 -0.07795 -0.24705 C -0.07934 -0.25284 -0.08003 -0.25746 -0.08264 -0.26255 C -0.0835 -0.26417 -0.08489 -0.26741 -0.08489 -0.26741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8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89 -0.26718 C -0.15086 -0.26857 -0.21562 -0.27296 -0.28142 -0.27643 C -0.2934 -0.28198 -0.30364 -0.28314 -0.31666 -0.2843 C -0.33281 -0.28869 -0.32308 -0.28661 -0.35555 -0.28754 C -0.39426 -0.28869 -0.47187 -0.29054 -0.47187 -0.29054 C -0.50277 -0.29239 -0.53263 -0.29702 -0.56371 -0.29841 C -0.57013 -0.30049 -0.57465 -0.30211 -0.58142 -0.30327 C -0.58715 -0.30697 -0.59305 -0.30859 -0.59895 -0.3109 C -0.61996 -0.30997 -0.64045 -0.30627 -0.66128 -0.30627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28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128 -0.30627 C -0.66406 -0.30511 -0.66719 -0.30534 -0.66962 -0.30326 C -0.67917 -0.2947 -0.66319 -0.30095 -0.67656 -0.29701 C -0.68142 -0.29054 -0.68507 -0.28452 -0.68958 -0.27805 C -0.69167 -0.27018 -0.69687 -0.26209 -0.70139 -0.25607 C -0.70174 -0.25353 -0.70156 -0.25075 -0.70243 -0.24844 C -0.70312 -0.24636 -0.70503 -0.24543 -0.70608 -0.24358 C -0.70868 -0.23942 -0.70972 -0.2341 -0.71198 -0.22947 C -0.71458 -0.21397 -0.71059 -0.23201 -0.71667 -0.2186 C -0.71753 -0.21675 -0.71736 -0.21443 -0.71788 -0.21235 C -0.72222 -0.19662 -0.72674 -0.18112 -0.73073 -0.16516 C -0.73108 -0.14735 -0.73194 -0.11196 -0.73194 -0.11196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28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195 -0.11173 C -0.72205 -0.04465 -0.7257 -0.08397 -0.7257 0.00601 E">
                                      <p:cBhvr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7c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651640" y="3284640"/>
            <a:ext cx="3046320" cy="2665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uto is the 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losest (dwarf) plane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Pluto is 2360 kilomet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uto has 3 mo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Pluto 258 Earth years to orbit the sun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89000"/>
            <a:ext cx="259236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ner Hand ITC"/>
              </a:rPr>
              <a:t>Plut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99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68360" y="3319560"/>
            <a:ext cx="2663640" cy="2822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589880" y="0"/>
            <a:ext cx="1554120" cy="180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19065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cc00cc"/>
                </a:solidFill>
                <a:latin typeface="comic"/>
              </a:rPr>
              <a:t>Pear 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211640" y="2781360"/>
            <a:ext cx="4645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y mnoen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ch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2852640"/>
            <a:ext cx="4176720" cy="338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rcury is the closest plane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Mercury is 4,878k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rcury has no mo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88 days for Mercury to orbit the su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58.6 days for mercury to rotate all the way ar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68360" y="3213000"/>
            <a:ext cx="3672000" cy="286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260280"/>
            <a:ext cx="604836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dddddd"/>
                    </a:gs>
                    <a:gs pos="100000">
                      <a:srgbClr val="99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Karate"/>
              </a:rPr>
              <a:t>Mercury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dddddd"/>
                  </a:gs>
                  <a:gs pos="100000">
                    <a:srgbClr val="99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Karate"/>
              <a:ea typeface="Kahootz Karat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86640" y="0"/>
            <a:ext cx="1557360" cy="18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844640"/>
            <a:ext cx="288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500" spc="-1" strike="noStrike">
                <a:solidFill>
                  <a:srgbClr val="ff9933"/>
                </a:solidFill>
                <a:latin typeface="Edwardian Script ITC"/>
              </a:rPr>
              <a:t>M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66920" y="2997360"/>
            <a:ext cx="2737080" cy="3527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nus is the second closest to the s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iameter of Venus is 12,104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nus has no mo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takes Venus 227.4 earth days to orbit the s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takes Venus 225 earth days to rotate around it’s axi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19280" y="26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50000">
                      <a:srgbClr val="0066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Fatty"/>
              </a:rPr>
              <a:t>venu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50000">
                    <a:srgbClr val="0066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Fatty"/>
              <a:ea typeface="Kahootz Fatty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55640" y="3213000"/>
            <a:ext cx="3382920" cy="316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594560" y="0"/>
            <a:ext cx="1549440" cy="1811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00ffcc"/>
                </a:solidFill>
                <a:latin typeface="Kahootz Mezzo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85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5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4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cc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48360" y="2924280"/>
            <a:ext cx="3527280" cy="3673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3399ff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is third closest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diameter is 12,753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has 1 m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earth 365 days to orbit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earth 24 hours to rotate around the ax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19280" y="260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Computer"/>
              </a:rPr>
              <a:t>Earth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Computer"/>
              <a:ea typeface="Kahootz Computer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11280" y="3213000"/>
            <a:ext cx="3241440" cy="32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2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599240" y="0"/>
            <a:ext cx="1544760" cy="18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330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03280" y="2997000"/>
            <a:ext cx="3745080" cy="338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66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s is the fourth closes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Mars is 6794 kilometr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s has 2 mo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Mars 687 earth days to orbit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Mars 24h and 37 minutes to rotate around it’s 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68360" y="303372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260280"/>
            <a:ext cx="604836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00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Ma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96360" y="0"/>
            <a:ext cx="154764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2133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7c80"/>
                </a:solidFill>
                <a:latin typeface="Antique Olive"/>
              </a:rPr>
              <a:t>Munch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99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64000" y="2708280"/>
            <a:ext cx="3168720" cy="3673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99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piter is the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s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is142,984 K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piter has 63 mo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Jupiter 12 earth years to orbit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640" y="260280"/>
            <a:ext cx="3384720" cy="10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66"/>
                    </a:gs>
                    <a:gs pos="100000">
                      <a:srgbClr val="ff66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Jupi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66"/>
                  </a:gs>
                  <a:gs pos="100000">
                    <a:srgbClr val="ff66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95280" y="2703600"/>
            <a:ext cx="3600360" cy="336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599240" y="0"/>
            <a:ext cx="1544760" cy="18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557360"/>
            <a:ext cx="2592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900" spc="-1" strike="noStrike">
                <a:solidFill>
                  <a:srgbClr val="3399ff"/>
                </a:solidFill>
                <a:latin typeface="Kahootz Grunj 2"/>
              </a:rPr>
              <a:t>Jum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7c8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435640" y="3068280"/>
            <a:ext cx="3168720" cy="3600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urn is the 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 to the s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Saturn is 120, 536 kilomet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urn has 61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Saturn 29,43 earth years to orbi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8360" y="3173400"/>
            <a:ext cx="3166920" cy="296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627280" y="189000"/>
            <a:ext cx="367344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Fres2"/>
              </a:rPr>
              <a:t>Satur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66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Fres2"/>
              <a:ea typeface="Kahootz Fres2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594560" y="0"/>
            <a:ext cx="1549440" cy="180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198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3300"/>
                </a:solidFill>
                <a:latin typeface="Agency FB"/>
              </a:rPr>
              <a:t>Sque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651640" y="2997000"/>
            <a:ext cx="2736720" cy="36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ranus 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 to the s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Uranus is 51 118 kilomet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ranus has 27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Uranus 84.02 years to orbit the sun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8360" y="2978280"/>
            <a:ext cx="3382920" cy="316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56000" y="404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cc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alligraphy"/>
              </a:rPr>
              <a:t>Uranu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cc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589880" y="0"/>
            <a:ext cx="1554120" cy="1795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2349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3399"/>
                </a:solidFill>
                <a:latin typeface="Onyx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cc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03280" y="3141720"/>
            <a:ext cx="3529080" cy="324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33ccff"/>
              </a:gs>
              <a:gs pos="100000">
                <a:srgbClr val="00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ptune is the 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lanet closest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Neptune is 49,528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ptune has 13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Neptune 164.8 Earth years to orbit the s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0920" y="3213000"/>
            <a:ext cx="2520720" cy="3057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700360" y="476280"/>
            <a:ext cx="3160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ffcc"/>
                    </a:gs>
                    <a:gs pos="100000">
                      <a:srgbClr val="33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Neptun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cc"/>
                  </a:gs>
                  <a:gs pos="100000">
                    <a:srgbClr val="33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7585200" y="0"/>
            <a:ext cx="1558800" cy="180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206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9933"/>
                </a:solidFill>
                <a:latin typeface="Kahootz Face"/>
              </a:rPr>
              <a:t>Na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4:23:09Z</dcterms:created>
  <dc:creator>Admin</dc:creator>
  <dc:description/>
  <dc:language>en-US</dc:language>
  <cp:lastModifiedBy>Admin</cp:lastModifiedBy>
  <dcterms:modified xsi:type="dcterms:W3CDTF">2009-08-20T23:34:32Z</dcterms:modified>
  <cp:revision>17</cp:revision>
  <dc:subject/>
  <dc:title>Planets</dc:title>
</cp:coreProperties>
</file>